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904B-F2FE-4184-9FAF-80EA8A502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3470-1C59-4FA7-BB23-1FF2EAEB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219A9A-58E7-4C1E-8EA8-5EC2F347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711EE-E5DC-4CF3-ADAC-A5951F92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5B69D-4D00-4D75-91B1-E8A6D5B1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E85F37-0B49-486A-8CAA-F2042E23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858EA-7EEF-41DA-815A-8BDE6D0E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A64A6-78B4-4B4E-B936-3F609F77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74A61-B5C2-41AC-837C-D0298800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FD131-BAE2-4786-B737-94076DD3E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D0E32-A71D-4A92-B926-8142280F4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835B-017D-4132-BCAB-9A733B1C1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44B6-A9B3-4B1A-B120-16DF934C1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5FC2-21E1-4754-A5BA-AF3E8E627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594B-FE19-4D65-889A-B567C53F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7BB4-D9A6-49BA-ABBD-02AD7531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3AA8-BBF8-4D4D-A4E3-547D6A76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2A6F-9209-4050-819C-760C0D88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8013-BD35-4836-BC43-9340629D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35AB-E38B-4DEB-B051-07635D6D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7F05-B141-4011-A869-D9BA9575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7CE0-8043-423C-A82D-F108B7EE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3C9C-260B-4337-A8A6-AB26BEDE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605B7-1C43-4B9E-B648-E94FCCA0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64DF-C0C0-448B-9FAC-60DC02073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2AB1-F3C3-41F4-A18C-6549871CC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2D35A-7775-476B-9A4B-5EB04F488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A354C-284B-4493-BF18-A4DD8CEF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3132E-AF02-48D5-A16D-B36A88D3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7740F-F051-4DA2-B1BD-08FD82FA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5D792-1E57-4537-80AC-9B427F66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58B6-B8BD-4BEF-8AE0-611058F8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B0221-0588-4CEB-9534-1CEB7C96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E7675-4A9E-480F-A78A-929E6522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B2735-83CC-4C3C-9C2F-5EF74287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7DE8E-360C-4AE6-8394-3F8A0DDF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FF687-4741-41EA-AAF7-4C709125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C68EC-36EC-48BD-B526-790170DD8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51B2D-F9FA-4DE5-A28F-88C8581F7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F0293-EE2A-4E7E-B898-487F2A867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D53DA-8815-4C15-838F-55F2A401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B62E6-9263-42E4-9B36-556B527D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AE3F-5DA0-422C-8C50-8EF4A232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28771-1154-431E-A391-BB34467C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7BBBF-0F50-4DE9-A5DE-A8E1F88B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7C86B-6DB1-484F-B22F-E0E81CD0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182D5-62D1-4A36-9338-BD0687E8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B13F7-5C4B-4497-B304-4115CBBE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65C53-703C-4CF8-B6C8-3663FEB4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96FCC-7D98-4C85-9683-82316314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C5556-4B28-4621-AF19-DAF19D0E4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0A1C4-1BA1-400F-A40E-A24B2D29C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F28A3-BC00-4042-8FD6-A0ED12136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1B32-BF12-4E98-A181-1959DB7A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E5EA8-2A71-46F8-B74D-A1632A6C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4836D-9A69-4921-8EA2-8CEB211F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E8CC9-F78D-4001-9074-10397E8E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8A2DD-4ED5-4925-A3CF-5451C6D0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571D1-D654-4196-B08D-A27D7A50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1EC86-9DC5-444A-BC13-C238FD1B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C9389-EF97-444D-B871-3E35FA15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3BE1F-7F02-468F-B9DC-EC1EBE97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A6F53-9FC5-4707-863F-B595B3F9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2319E-8FEA-45CC-A82B-FA7E6103C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3C4A-73FF-4311-8BD0-BBA9F907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8631B-B4EE-44BA-A04A-AA5BBD272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8830F6-9DAF-4051-98FB-F3D066D81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91E40B-3AC2-4F2B-8A4B-067B2AFC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FE5F1A-F577-40F5-A8E3-6035FBBA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D40BD1-9D69-421E-A713-CA2540E3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36D07C-3F97-4D3F-B2EE-25A33756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E575E4-ECCC-4CC0-9AB7-4CDF8218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04FEBB-2786-40A2-BF4F-8B540332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83F934-F023-4148-AA6D-C9417030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6D2831-E7F0-4ACB-9DD5-A823C508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18CA-E74C-4810-85D1-374DCD28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FCBADB-EC96-4335-B557-3F536CED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1D1CF5-4B68-43CA-9501-2A1A10116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BAD5F2-DC11-449C-8F8F-AA5152A93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B8C50-E9A4-4A9F-86C4-428C2F752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7F887-2E16-47C9-B7D9-E83E57AA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922EE-CEE8-4B7A-BA05-E39D5D52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86BB9-F138-4F6A-94D7-626B7034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82B92-9603-447F-838E-7464BA5B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27BA2-4B3C-4BB3-BD3E-F4429F4C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7C574-5464-4000-A6F9-4739F657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5197-A869-4FA9-A72A-69E819AF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B9153-E254-47C0-B181-DCD15FEE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AD6B9-6114-4207-90A9-ED49032A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19AF2-B02B-4A8B-B12C-8EE10FF2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DD97C-8037-4B32-BE24-91E1C36A3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8978B-C762-480C-907B-01E24352A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CA037-C582-418C-9382-A557E687B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7C390-F3D5-4FC2-8BA4-AD247D64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DE70A-80D4-461E-BF57-2061159E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79814-9BBB-4D07-9538-C99F4891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EBB7D-FA68-40FE-AE5F-82BC975E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CAA7-F076-4068-80B8-BDCD8F1B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C76FE-EA95-4CAF-AB87-B1B469BE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DBB92-D36E-4B69-8DAF-51B57985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7179B-6E08-45BE-9DAD-F009D1BE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3B333-7D3B-4232-8D54-D349743F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ED2F8-9E55-4A91-835F-CE6E055B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E932C-275E-425C-A61F-D18B7F88A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B890C-F28F-4602-853F-A1E6C4199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97229-E8B8-441F-B7D6-A767AAA7C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8E638F-C60F-490D-8561-60329F64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6BED7C-F871-4A6B-A050-7201B2FC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579D-A0D1-4664-8924-AB3B2167A4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3BDE-749A-4E20-A41B-2E7C32A874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031D-2C35-432A-8871-0794BA782EAF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73CC-39EB-4466-A641-F4D5F38FBB50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9070-7392-481C-89CD-5EC74EABE8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FC65-7F55-450F-A9EC-E4516501ACE8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9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sp>
        <p:nvSpPr>
          <p:cNvPr id="218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1" name="PlaceHolder 1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9990-04BD-44B7-A9F4-9B47993AB0CB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28C3-27D6-4A0C-B458-48454E0F710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6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36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36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5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sldNum" idx="27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C8BF-CCE7-4512-990E-2B99EE3AA39B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358128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-126720" y="0"/>
            <a:ext cx="31064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纪念白求恩</a:t>
            </a:r>
            <a:endParaRPr b="0" lang="en-US" sz="9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-331560" y="4221000"/>
            <a:ext cx="16426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3a"/>
                </a:solidFill>
                <a:latin typeface="Times New Roman"/>
                <a:ea typeface="楷体_GB2312"/>
              </a:rPr>
              <a:t>毛泽东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539640" y="155736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白求恩同志毫不利己专门利人的精神，表现在他对工作的极端的负责任，对同志对人民的极端的热忱。”</a:t>
            </a:r>
            <a:r>
              <a:rPr b="0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32880" y="4581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要点：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908000" y="465300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赞扬白求恩同志毫不利己专门利人的精神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402560" y="6397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第二段重点句：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7696080" y="6418440"/>
            <a:ext cx="144792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611280" y="836640"/>
            <a:ext cx="469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第三段重点句：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32880" y="4384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要点：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835280" y="4365720"/>
            <a:ext cx="688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赞扬白求恩同志对技术精益求精的精神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990720" y="1676520"/>
            <a:ext cx="739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白求恩同志是个医生，他以医疗为职业，对技术精益求精。”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7696080" y="6418440"/>
            <a:ext cx="144792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611280" y="765000"/>
            <a:ext cx="425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第四段重点句：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04160" y="39337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要点：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79640" y="393372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号召全党学习白求恩同志毫无自私自利之心的精神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19810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们大家要学习他毫无自私自利之心的精神。”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7696080" y="6418440"/>
            <a:ext cx="144792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867280" y="188640"/>
            <a:ext cx="2772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3a"/>
                </a:solidFill>
                <a:latin typeface="Arial"/>
                <a:ea typeface="楷体_GB2312"/>
              </a:rPr>
              <a:t>文章框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10920" y="1268280"/>
            <a:ext cx="68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赞扬白求恩同志的国际主义精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赞扬白求恩同志毫不利己专门利人的精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赞扬白求恩同志对技术精益求精的精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文章总的结构是：分分分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050920" y="1557360"/>
            <a:ext cx="360360" cy="2951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76680 h 2951280"/>
              <a:gd name="textAreaBottom" fmla="*/ 2874600 h 29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84320" y="0"/>
            <a:ext cx="1277640" cy="68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号召全党学习白求恩同志的这种共产主义精神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919800" y="189000"/>
            <a:ext cx="115524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Verdana"/>
                <a:ea typeface="楷体_GB2312"/>
              </a:rPr>
              <a:t>这种精神的实质是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毫无自私自利之心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2137680" y="709560"/>
            <a:ext cx="517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各段内容要点之间的联系是怎样的</a:t>
            </a:r>
            <a:r>
              <a:rPr b="1" lang="zh-CN" sz="40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?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39640" y="1773360"/>
            <a:ext cx="82296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Verdana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楷体_GB2312"/>
              </a:rPr>
              <a:t>文章前三段都是共产主义精神的具体表现。文章从三个方面阐述了白求恩同志的共产主义精神，在第四段并号召全党向他学习这种真正的共产主义者的精神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5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15200" y="6305400"/>
            <a:ext cx="1828800" cy="5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3a"/>
                </a:solidFill>
                <a:latin typeface="Arial"/>
                <a:ea typeface="楷体_GB2312"/>
              </a:rPr>
              <a:t>议论文和记叙文的区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430200" y="476280"/>
            <a:ext cx="8713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叙”和“议”是两种不同的表达方式。议论文，以“议”为主，“叙”是为证明论点提出事实根据，“叙”要扣住论点，“叙”得简明、概括。记叙文也“叙”和“议”，记叙文以“叙”为主，“议”是用于揭示事物的本质和意义，起画龙点睛，突出中心的作用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本文是议论文，运用夹叙夹议、以议为主的写法，谈谈课文是怎样夹叙夹议的</a:t>
            </a:r>
            <a:r>
              <a:rPr b="1" lang="zh-CN" sz="40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?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7696080" y="6418440"/>
            <a:ext cx="144792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324000" y="2276640"/>
            <a:ext cx="866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第一层：高度概括白求恩同志的主要                   事迹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第二层：“高度概括白求恩的思想和行  动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第三层：引用马列主义观点论述白求 恩同志具有伟大的国际主义精神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790080" y="949320"/>
            <a:ext cx="128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3a"/>
                </a:solidFill>
                <a:latin typeface="Verdana"/>
                <a:ea typeface="楷体_GB2312"/>
              </a:rPr>
              <a:t>第一段：可以分为三层。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62120" y="36576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Verdana"/>
                <a:ea typeface="楷体_GB2312"/>
              </a:rPr>
              <a:t>    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7696080" y="6418440"/>
            <a:ext cx="144792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838836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白求恩同志是加拿大共产党员……不幸以身殉职”是记叙，其余是议论。</a:t>
            </a:r>
            <a:br>
              <a:rPr sz="5400"/>
            </a:b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先叙后议。先概括简叙白求恩事迹，后赞扬他的国际主义精神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-252360" y="980640"/>
            <a:ext cx="793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           </a:t>
            </a:r>
            <a:r>
              <a:rPr b="1" lang="zh-CN" sz="4800" spc="-1" strike="noStrike">
                <a:solidFill>
                  <a:srgbClr val="00003a"/>
                </a:solidFill>
                <a:latin typeface="Tahoma"/>
                <a:ea typeface="楷体_GB2312"/>
              </a:rPr>
              <a:t>问题赏析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章开头对白求恩同志的介绍包含哪些内容？有什么作用？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求恩不远万里来到中国，他身上最本质的东西是什么？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用 “列宁主义认为”一段话的作用是什么？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简介白求恩生平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8964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诺尔曼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求恩（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8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39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伟大的国际主义战士，加拿大共产党员，著名的胸外科医生。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37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“卢沟桥事变”爆发后，受加拿大共产党的派遣．率领由加拿大和美国人组成的医疗队于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38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初来到中国．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间经延安到达晋察冀边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0" y="2205000"/>
            <a:ext cx="2895480" cy="36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第一层：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第二层：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第三层：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06880" y="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第二段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092560" y="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可分三层，每一层都是先叙后议。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436400" y="609480"/>
            <a:ext cx="43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①②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｜③④⑤⑥⑦｜⑧⑨⑩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204560" y="1371600"/>
            <a:ext cx="51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叙议    叙   议   叙  议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835280" y="213372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先高度概括白求恩精神的具体表现，后号召每个共产党员都要学习他。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763640" y="378936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先联系“不少的人”的表现，后分析“不少的人”的实质。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692360" y="508464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先转述从前线回来的人对白求恩的评价，后号召学习他的精神。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rot="16245600">
            <a:off x="2967480" y="532440"/>
            <a:ext cx="230400" cy="1600200"/>
          </a:xfrm>
          <a:custGeom>
            <a:avLst/>
            <a:gdLst>
              <a:gd name="textAreaLeft" fmla="*/ 147240 w 230400"/>
              <a:gd name="textAreaRight" fmla="*/ 230760 w 2304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422"/>
                </a:lnTo>
                <a:cubicBezTo>
                  <a:pt x="10800" y="9322"/>
                  <a:pt x="5400" y="10222"/>
                  <a:pt x="0" y="10222"/>
                </a:cubicBezTo>
                <a:cubicBezTo>
                  <a:pt x="5400" y="10222"/>
                  <a:pt x="10800" y="11122"/>
                  <a:pt x="10800" y="1202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16218000">
            <a:off x="5330880" y="988200"/>
            <a:ext cx="152280" cy="762120"/>
          </a:xfrm>
          <a:custGeom>
            <a:avLst/>
            <a:gdLst>
              <a:gd name="textAreaLeft" fmla="*/ 97200 w 152280"/>
              <a:gd name="textAreaRight" fmla="*/ 152640 w 1522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7696080" y="6418440"/>
            <a:ext cx="144792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250920" y="333360"/>
            <a:ext cx="865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文中哪些话是正面介绍白求恩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?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哪些话是侧面介绍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?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侧面介绍有什么作用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?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28600" y="177336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白求恩毫不利己专门利人的精神……极端的热忱”是正面介绍；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50920" y="3068640"/>
            <a:ext cx="873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从前线回来的人……无不为之感动”是侧面介绍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79280" y="436572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侧面介绍是为了补充正面介绍的不足，通过别人的眼光来写，增强了事实的可信度，增强了文章的表达效果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6305400"/>
            <a:ext cx="1828800" cy="5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468360" y="213372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3a"/>
                </a:solidFill>
                <a:latin typeface="Verdana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00003a"/>
                </a:solidFill>
                <a:latin typeface="Verdana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3a"/>
                </a:solidFill>
                <a:latin typeface="Verdana"/>
                <a:ea typeface="楷体_GB2312"/>
              </a:rPr>
              <a:t>白求恩同志是个医生……他的医术是很高明的”是记叙，其余是议论。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559520" y="98100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3a"/>
                </a:solidFill>
                <a:latin typeface="Verdana"/>
                <a:ea typeface="楷体_GB2312"/>
              </a:rPr>
              <a:t>第三段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4000" y="4292640"/>
            <a:ext cx="88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Verdana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楷体_GB2312"/>
              </a:rPr>
              <a:t>先叙后议。先简叙白求恩对技术的钻研和医术高明，由此及彼联系两种“一班人”给以批评教育。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7696080" y="6418440"/>
            <a:ext cx="144792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685800" y="22860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文章如何运用对比手法的</a:t>
            </a:r>
            <a:r>
              <a:rPr b="1" lang="zh-CN" sz="40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?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250920" y="1052640"/>
          <a:ext cx="8642160" cy="5659200"/>
        </p:xfrm>
        <a:graphic>
          <a:graphicData uri="http://schemas.openxmlformats.org/drawingml/2006/table">
            <a:tbl>
              <a:tblPr/>
              <a:tblGrid>
                <a:gridCol w="1676160"/>
                <a:gridCol w="2789280"/>
                <a:gridCol w="4176720"/>
              </a:tblGrid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1532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15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190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1" name=""/>
          <p:cNvSpPr/>
          <p:nvPr/>
        </p:nvSpPr>
        <p:spPr>
          <a:xfrm>
            <a:off x="2618280" y="1125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楷体_GB2312"/>
              </a:rPr>
              <a:t>白求恩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382440" y="1125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楷体_GB2312"/>
              </a:rPr>
              <a:t>不少人和一些人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952880" y="2057400"/>
            <a:ext cx="351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楷体_GB2312"/>
              </a:rPr>
              <a:t>不负责任，拈轻怕重，喜欢自吹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600280" y="2286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楷体_GB2312"/>
              </a:rPr>
              <a:t>极端负责任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61680" y="23623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楷体_GB2312"/>
              </a:rPr>
              <a:t>对工作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61680" y="38862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楷体_GB2312"/>
              </a:rPr>
              <a:t>对人民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61680" y="54100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楷体_GB2312"/>
              </a:rPr>
              <a:t>对技术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600280" y="38862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楷体_GB2312"/>
              </a:rPr>
              <a:t>极端的热忱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659680" y="54100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楷体_GB2312"/>
              </a:rPr>
              <a:t>精益求精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46760" y="4876920"/>
            <a:ext cx="389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楷体_GB2312"/>
              </a:rPr>
              <a:t>鄙薄技术工作以为不足道，以为无出路，见异思迁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3505320"/>
            <a:ext cx="379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楷体_GB2312"/>
              </a:rPr>
              <a:t>冷冷清清，漠不关心，麻木不仁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7696080" y="6427800"/>
            <a:ext cx="144792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80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85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468360" y="191628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对比方法的好处是，突出了白求恩崇高的共产主义精神，强调了向白求恩学习的必要性，明确了应该克服的缺点和今后努力的方向，从而有力的证明和阐述了论点。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559400" y="94932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说说运用对比手法的好处。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0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6305400"/>
            <a:ext cx="1828800" cy="5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250920" y="213372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Verdana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楷体_GB2312"/>
              </a:rPr>
              <a:t>我和白求恩同志只见过一面……我是很悲痛的”是记叙，其余是议论。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848600" y="96840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Verdana"/>
                <a:ea typeface="楷体_GB2312"/>
              </a:rPr>
              <a:t>第四段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50920" y="4365720"/>
            <a:ext cx="86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Verdana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楷体_GB2312"/>
              </a:rPr>
              <a:t>先叙后议。先叙述自己与白求恩的交往，然后分析和强调学习白求恩的意义。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0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6305400"/>
            <a:ext cx="1828800" cy="5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3a"/>
                </a:solidFill>
                <a:latin typeface="Arial"/>
                <a:ea typeface="楷体_GB2312"/>
              </a:rPr>
              <a:t>问题赏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作者回忆了同白求思同志的交往，写了哪些内容？按怎样的顺序写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只见过一面”的“只”字流露出怎样的心情？“后来他给我来过许多信”说明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我是很悲痛的”可以改成“我很悲痛”吗？为什么？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向白求恩学习的意义是什么？五个短语“一个……的人”组成排比形式，是从哪几个角度来说的？</a:t>
            </a:r>
            <a:br>
              <a:rPr sz="36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323640" y="549000"/>
            <a:ext cx="850716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确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5400" spc="-1" strike="noStrike">
                <a:solidFill>
                  <a:srgbClr val="9f0509"/>
                </a:solidFill>
                <a:latin typeface="楷体_GB2312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9f0509"/>
                </a:solidFill>
                <a:latin typeface="楷体_GB2312"/>
                <a:ea typeface="楷体_GB2312"/>
              </a:rPr>
              <a:t>高尚”指人格，“纯粹”指品质；“有道德”指修养；“脱离了低级趣味”指志趣；“有益于人民”指人生意义。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个短语由短而稍长；气势越发磅礴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1551240" y="404640"/>
            <a:ext cx="365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本文的语言有什么特色</a:t>
            </a:r>
            <a:r>
              <a:rPr b="1" lang="zh-CN" sz="40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?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28600" y="112536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⑴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设问句，如：“这是什么精神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是国际主义的精神，这是共产主义的精神。”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247560" y="292428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引起读者的注意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79280" y="378936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⑵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双重否定句，如：“从前线回来的人说到白求恩，没有一个不佩服他，没有一个不为他的精神所感动。”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319200" y="580536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加强肯定的语气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7696080" y="6418440"/>
            <a:ext cx="144792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250920" y="26028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⑶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排比句，如：“一个人能力有大小，但只要有这点精神，就是一个高尚的人，一个纯粹的人，一个有道德的人，一个脱离了低级趣味的人，一个有益于人民的人。”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3357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从人格、品质、修养、志趣、人生意义五个方面强调向白求恩学习的意义。采取排比增强了语言的气势，使赞颂的感情显得热情洋溢，同时也避免句子过于冗长，以此结尾，更加有力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2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6315120"/>
            <a:ext cx="182880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24000" y="765000"/>
            <a:ext cx="8820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939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年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月白求恩在涞源摩天岭前线医院医治伤员时，不幸手指感染中毒，由于他坚持工作，肘关节又发生转移性脓疡．于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939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年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月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2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日在河北省唐县逝世。他最后一句话是：“努力吧！向着伟大的路，开辟前面的事业！”。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白求恩逝世一个月后的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2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月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1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日，毛泽东同志写下了《纪念白求恩》这篇文章。 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539640" y="2060640"/>
            <a:ext cx="842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篇议论文运用夹叙夹议的写法，既能使读者由表及里的认识白求恩同志，又能使读者懂得向白求恩同志学习什么，为什么要向他学习。此外文章还运用对比手法，正面介绍和侧面介绍，语言生动简洁，说服力强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785960" y="73836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小结</a:t>
            </a: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2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6305400"/>
            <a:ext cx="1828800" cy="5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1258920" y="2637000"/>
            <a:ext cx="6767640" cy="259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cccce6"/>
                  </a:solidFill>
                  <a:miter/>
                </a:ln>
                <a:solidFill>
                  <a:srgbClr val="9f0509"/>
                </a:solidFill>
                <a:latin typeface="楷体_GB2312"/>
              </a:rPr>
              <a:t>随堂检测</a:t>
            </a:r>
            <a:endParaRPr b="1" lang="en-US" sz="9600" spc="1" strike="noStrike">
              <a:ln w="9360">
                <a:solidFill>
                  <a:srgbClr val="cccce6"/>
                </a:solidFill>
                <a:miter/>
              </a:ln>
              <a:solidFill>
                <a:srgbClr val="9f0509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250920" y="476280"/>
            <a:ext cx="88930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⒈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心里充满真诚和热情。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         )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⒉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态度冷淡，毫不关心。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         )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⒊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看到别的事物就改变原来的主意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                 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         )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⒋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接受工作时挑拣轻易的，害怕繁重的。                  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         ) 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⒌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缺乏政治敏感和政治热情，对集体、对人民的利益不关心。  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         )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582000" y="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㈠用成语表达下列几句话的含义。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227640" y="62064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楷体_GB2312"/>
              </a:rPr>
              <a:t>满腔热忱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227640" y="134136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楷体_GB2312"/>
              </a:rPr>
              <a:t>漠不关心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227640" y="285264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楷体_GB2312"/>
              </a:rPr>
              <a:t>见异思迁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227640" y="44370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楷体_GB2312"/>
              </a:rPr>
              <a:t>拈轻怕重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27640" y="58770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楷体_GB2312"/>
              </a:rPr>
              <a:t>麻木不仁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7696080" y="6418440"/>
            <a:ext cx="144792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250920" y="549360"/>
            <a:ext cx="8642160" cy="51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㈡《纪念白求恩》这篇文章题目中“纪念”二字揭示了文章的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      ) 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A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．写作目的与文章主旨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B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．文章内容与论述重点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C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．写作动机与论述缘由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D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．表达方式与论述方式 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188720" y="228744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7696080" y="6418440"/>
            <a:ext cx="144792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179280" y="333360"/>
            <a:ext cx="882036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《纪念白求恩》一文中心论点是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    )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A.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学习白求恩同志毫不利己专门利人的精神。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B.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学习白求恩同志伟大的国际主义精神。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C.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学习白求恩同志毫无自私自利之心的共产主义精神。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D.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学习白求恩同志对技术精益求精的精神。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886520" y="47628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3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6305400"/>
            <a:ext cx="1828800" cy="5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50560" y="742680"/>
            <a:ext cx="779292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作 业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熟读全文，</a:t>
            </a:r>
            <a:r>
              <a:rPr b="1" lang="zh-CN" sz="6000" spc="-1" strike="noStrike">
                <a:solidFill>
                  <a:srgbClr val="9f0509"/>
                </a:solidFill>
                <a:latin typeface="楷体_GB2312"/>
                <a:ea typeface="楷体_GB2312"/>
              </a:rPr>
              <a:t>背诵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后一段。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复习议论文的写作方法及特点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-360" y="549360"/>
            <a:ext cx="81630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       </a:t>
            </a:r>
            <a:r>
              <a:rPr b="1" lang="zh-CN" sz="6000" spc="-1" strike="noStrike">
                <a:solidFill>
                  <a:srgbClr val="007572"/>
                </a:solidFill>
                <a:latin typeface="Arial"/>
                <a:ea typeface="楷体_GB2312"/>
              </a:rPr>
              <a:t>学习目标的交流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3534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f0509"/>
                </a:solidFill>
                <a:latin typeface="楷体_GB2312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9f0509"/>
                </a:solidFill>
                <a:latin typeface="楷体_GB2312"/>
                <a:ea typeface="楷体_GB2312"/>
              </a:rPr>
              <a:t>、学习白求恩先生的共产主义精神。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f0509"/>
                </a:solidFill>
                <a:latin typeface="楷体_GB2312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9f0509"/>
                </a:solidFill>
                <a:latin typeface="楷体_GB2312"/>
                <a:ea typeface="楷体_GB2312"/>
              </a:rPr>
              <a:t>、夹叙夹议、以议为主的写法和对比的作 用是本文教学的重点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f0509"/>
                </a:solidFill>
                <a:latin typeface="楷体_GB2312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9f0509"/>
                </a:solidFill>
                <a:latin typeface="楷体_GB2312"/>
                <a:ea typeface="楷体_GB2312"/>
              </a:rPr>
              <a:t>、训练识别重点句及根据重点句归纳段意能力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5754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3a"/>
                </a:solidFill>
                <a:latin typeface="Verdana"/>
                <a:ea typeface="楷体_GB2312"/>
              </a:rPr>
              <a:t>朗读课文，读准字音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派遣（</a:t>
            </a:r>
            <a:r>
              <a:rPr b="1" lang="zh-CN" sz="4800" spc="-1" strike="noStrike">
                <a:solidFill>
                  <a:srgbClr val="9f0509"/>
                </a:solidFill>
                <a:latin typeface="宋体"/>
              </a:rPr>
              <a:t>pài</a:t>
            </a:r>
            <a:r>
              <a:rPr b="1" lang="zh-CN" sz="44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）   以身殉职（</a:t>
            </a:r>
            <a:r>
              <a:rPr b="1" lang="zh-CN" sz="4800" spc="-1" strike="noStrike">
                <a:solidFill>
                  <a:srgbClr val="9f0509"/>
                </a:solidFill>
                <a:latin typeface="宋体"/>
              </a:rPr>
              <a:t>xùn</a:t>
            </a:r>
            <a:r>
              <a:rPr b="1" lang="zh-CN" sz="44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）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狭隘（</a:t>
            </a:r>
            <a:r>
              <a:rPr b="1" lang="zh-CN" sz="4800" spc="-1" strike="noStrike">
                <a:solidFill>
                  <a:srgbClr val="9f0509"/>
                </a:solidFill>
                <a:latin typeface="宋体"/>
              </a:rPr>
              <a:t>ài</a:t>
            </a:r>
            <a:r>
              <a:rPr b="1" lang="zh-CN" sz="44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）    拈轻怕重（</a:t>
            </a:r>
            <a:r>
              <a:rPr b="1" lang="zh-CN" sz="4800" spc="-1" strike="noStrike">
                <a:solidFill>
                  <a:srgbClr val="9f0509"/>
                </a:solidFill>
                <a:latin typeface="宋体"/>
              </a:rPr>
              <a:t>niān</a:t>
            </a:r>
            <a:r>
              <a:rPr b="1" lang="zh-CN" sz="44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）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热忱（</a:t>
            </a:r>
            <a:r>
              <a:rPr b="1" lang="zh-CN" sz="4800" spc="-1" strike="noStrike">
                <a:solidFill>
                  <a:srgbClr val="9f0509"/>
                </a:solidFill>
                <a:latin typeface="宋体"/>
              </a:rPr>
              <a:t>chén</a:t>
            </a:r>
            <a:r>
              <a:rPr b="1" lang="zh-CN" sz="44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）  纯粹（</a:t>
            </a:r>
            <a:r>
              <a:rPr b="1" lang="zh-CN" sz="4800" spc="-1" strike="noStrike">
                <a:solidFill>
                  <a:srgbClr val="9f0509"/>
                </a:solidFill>
                <a:latin typeface="宋体"/>
              </a:rPr>
              <a:t>cuì</a:t>
            </a:r>
            <a:r>
              <a:rPr b="1" lang="zh-CN" sz="44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）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鄙薄（</a:t>
            </a:r>
            <a:r>
              <a:rPr b="1" lang="zh-CN" sz="4800" spc="-1" strike="noStrike">
                <a:solidFill>
                  <a:srgbClr val="9f0509"/>
                </a:solidFill>
                <a:latin typeface="宋体"/>
              </a:rPr>
              <a:t>bó</a:t>
            </a:r>
            <a:r>
              <a:rPr b="1" lang="zh-CN" sz="44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）    晋察冀（</a:t>
            </a:r>
            <a:r>
              <a:rPr b="1" lang="zh-CN" sz="4800" spc="-1" strike="noStrike">
                <a:solidFill>
                  <a:srgbClr val="9f0509"/>
                </a:solidFill>
                <a:latin typeface="宋体"/>
              </a:rPr>
              <a:t>jì</a:t>
            </a:r>
            <a:r>
              <a:rPr b="1" lang="zh-CN" sz="44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79280" y="1125360"/>
            <a:ext cx="4321440" cy="46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⑴</a:t>
            </a: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派遣：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⑵</a:t>
            </a: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狭隘：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⑶</a:t>
            </a: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满腔热忱：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392920" y="18900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解释下列词语。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124000" y="1125360"/>
            <a:ext cx="719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f0509"/>
                </a:solidFill>
                <a:latin typeface="楷体_GB2312"/>
                <a:ea typeface="楷体_GB2312"/>
              </a:rPr>
              <a:t>(</a:t>
            </a:r>
            <a:r>
              <a:rPr b="1" lang="zh-CN" sz="4800" spc="-1" strike="noStrike">
                <a:solidFill>
                  <a:srgbClr val="9f0509"/>
                </a:solidFill>
                <a:latin typeface="楷体_GB2312"/>
                <a:ea typeface="楷体_GB2312"/>
              </a:rPr>
              <a:t>政府、机关、团体等</a:t>
            </a:r>
            <a:r>
              <a:rPr b="1" lang="zh-CN" sz="4800" spc="-1" strike="noStrike">
                <a:solidFill>
                  <a:srgbClr val="9f0509"/>
                </a:solidFill>
                <a:latin typeface="楷体_GB2312"/>
                <a:ea typeface="楷体_GB2312"/>
              </a:rPr>
              <a:t>)</a:t>
            </a:r>
            <a:r>
              <a:rPr b="1" lang="zh-CN" sz="4800" spc="-1" strike="noStrike">
                <a:solidFill>
                  <a:srgbClr val="9f0509"/>
                </a:solidFill>
                <a:latin typeface="楷体_GB2312"/>
                <a:ea typeface="楷体_GB2312"/>
              </a:rPr>
              <a:t>派人到某处做某项工作。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68360" y="2708280"/>
            <a:ext cx="732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f0509"/>
                </a:solidFill>
                <a:latin typeface="楷体_GB2312"/>
                <a:ea typeface="楷体_GB2312"/>
              </a:rPr>
              <a:t>原意为窄小，不宽阔</a:t>
            </a:r>
            <a:r>
              <a:rPr b="1" lang="zh-CN" sz="4400" spc="-1" strike="noStrike">
                <a:solidFill>
                  <a:srgbClr val="9f0509"/>
                </a:solidFill>
                <a:latin typeface="楷体_GB2312"/>
                <a:ea typeface="楷体_GB2312"/>
              </a:rPr>
              <a:t>。</a:t>
            </a:r>
            <a:r>
              <a:rPr b="1" lang="zh-CN" sz="4800" spc="-1" strike="noStrike">
                <a:solidFill>
                  <a:srgbClr val="9f0509"/>
                </a:solidFill>
                <a:latin typeface="楷体_GB2312"/>
                <a:ea typeface="楷体_GB2312"/>
              </a:rPr>
              <a:t>常用来比喻心胸</a:t>
            </a:r>
            <a:r>
              <a:rPr b="1" lang="zh-CN" sz="4000" spc="-1" strike="noStrike">
                <a:solidFill>
                  <a:srgbClr val="9f0509"/>
                </a:solidFill>
                <a:latin typeface="楷体_GB2312"/>
                <a:ea typeface="楷体_GB2312"/>
              </a:rPr>
              <a:t>、</a:t>
            </a:r>
            <a:r>
              <a:rPr b="1" lang="zh-CN" sz="4800" spc="-1" strike="noStrike">
                <a:solidFill>
                  <a:srgbClr val="9f0509"/>
                </a:solidFill>
                <a:latin typeface="楷体_GB2312"/>
                <a:ea typeface="楷体_GB2312"/>
              </a:rPr>
              <a:t>气量</a:t>
            </a:r>
            <a:r>
              <a:rPr b="1" lang="zh-CN" sz="4000" spc="-1" strike="noStrike">
                <a:solidFill>
                  <a:srgbClr val="9f0509"/>
                </a:solidFill>
                <a:latin typeface="楷体_GB2312"/>
                <a:ea typeface="楷体_GB2312"/>
              </a:rPr>
              <a:t>、</a:t>
            </a:r>
            <a:r>
              <a:rPr b="1" lang="zh-CN" sz="4800" spc="-1" strike="noStrike">
                <a:solidFill>
                  <a:srgbClr val="9f0509"/>
                </a:solidFill>
                <a:latin typeface="楷体_GB2312"/>
                <a:ea typeface="楷体_GB2312"/>
              </a:rPr>
              <a:t>见识等不开阔。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635280" y="4941720"/>
            <a:ext cx="55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f0509"/>
                </a:solidFill>
                <a:latin typeface="楷体_GB2312"/>
                <a:ea typeface="楷体_GB2312"/>
              </a:rPr>
              <a:t>心里充满真诚和热情。忱：情意。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2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6305400"/>
            <a:ext cx="1828800" cy="5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179280" y="620640"/>
            <a:ext cx="439272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Verdana"/>
                <a:ea typeface="楷体_GB2312"/>
              </a:rPr>
              <a:t>⑷</a:t>
            </a:r>
            <a:r>
              <a:rPr b="1" lang="zh-CN" sz="4800" spc="-1" strike="noStrike">
                <a:solidFill>
                  <a:srgbClr val="0033cc"/>
                </a:solidFill>
                <a:latin typeface="Verdana"/>
                <a:ea typeface="楷体_GB2312"/>
              </a:rPr>
              <a:t>漠不关心：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Verdana"/>
                <a:ea typeface="楷体_GB2312"/>
              </a:rPr>
              <a:t>⑸</a:t>
            </a:r>
            <a:r>
              <a:rPr b="1" lang="zh-CN" sz="4800" spc="-1" strike="noStrike">
                <a:solidFill>
                  <a:srgbClr val="0033cc"/>
                </a:solidFill>
                <a:latin typeface="Verdana"/>
                <a:ea typeface="楷体_GB2312"/>
              </a:rPr>
              <a:t>纯粹：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Verdana"/>
                <a:ea typeface="楷体_GB2312"/>
              </a:rPr>
              <a:t>⑹</a:t>
            </a:r>
            <a:r>
              <a:rPr b="1" lang="zh-CN" sz="4800" spc="-1" strike="noStrike">
                <a:solidFill>
                  <a:srgbClr val="0033cc"/>
                </a:solidFill>
                <a:latin typeface="Verdana"/>
                <a:ea typeface="楷体_GB2312"/>
              </a:rPr>
              <a:t>低级趣味：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743280" y="620640"/>
            <a:ext cx="54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f0509"/>
                </a:solidFill>
                <a:latin typeface="楷体_GB2312"/>
                <a:ea typeface="楷体_GB2312"/>
              </a:rPr>
              <a:t>态度冷淡，毫不关心。漠：冷淡。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556000" y="24210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f0509"/>
                </a:solidFill>
                <a:latin typeface="楷体_GB2312"/>
                <a:ea typeface="楷体_GB2312"/>
              </a:rPr>
              <a:t>不含杂质，不掺杂其他成分。本课指真正、名副其实。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8360" y="4797360"/>
            <a:ext cx="56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f0509"/>
                </a:solidFill>
                <a:latin typeface="楷体_GB2312"/>
                <a:ea typeface="楷体_GB2312"/>
              </a:rPr>
              <a:t>无聊而不高尚的情趣。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684360" y="1773360"/>
            <a:ext cx="80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3a"/>
                </a:solidFill>
                <a:latin typeface="Verdana"/>
                <a:ea typeface="楷体_GB2312"/>
              </a:rPr>
              <a:t>请找出各段的重点句，再参照重点句的意思归纳各段要点（即段意）</a:t>
            </a: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 rot="2617200">
            <a:off x="7524360" y="5444640"/>
            <a:ext cx="95256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7696080" y="6427800"/>
            <a:ext cx="1447920" cy="4302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684360" y="155736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个外国人，毫无利己的动机，把中国人民的解放事业当作他自己的事业，这是什么精神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是国际主义的精神，这是共产主义的精神，每一个中国共产党员都要学习这种精神。”</a:t>
            </a:r>
            <a:r>
              <a:rPr b="0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88160" y="5516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要点：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318640" y="551664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赞扬白求恩同志的国际主义精神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68360" y="6922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第一段</a:t>
            </a:r>
            <a:r>
              <a:rPr b="1" lang="zh-CN" sz="4000" spc="-1" strike="noStrike">
                <a:solidFill>
                  <a:srgbClr val="00003a"/>
                </a:solidFill>
                <a:latin typeface="Verdana"/>
                <a:ea typeface="楷体_GB2312"/>
              </a:rPr>
              <a:t>重点句</a:t>
            </a:r>
            <a:r>
              <a:rPr b="1" lang="zh-CN" sz="40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4:13:36Z</dcterms:created>
  <dc:creator>孟平凡</dc:creator>
  <dc:description/>
  <dc:language>en-US</dc:language>
  <cp:lastModifiedBy>Lenovo User</cp:lastModifiedBy>
  <dcterms:modified xsi:type="dcterms:W3CDTF">2012-02-23T01:02:38Z</dcterms:modified>
  <cp:revision>42</cp:revision>
  <dc:subject/>
  <dc:title>PowerPoint 演示文稿</dc:title>
</cp:coreProperties>
</file>